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693AF-344D-4C70-BFDA-A53A4754A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FD9A2-ED10-4B41-AA81-3DE0196A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85B78-8E61-4954-A064-0E25334A4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2360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98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76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2360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98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0B2A8-200F-4B3D-9241-6A45D1F7D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05BCF-6E00-46D5-939D-C43C852A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BAF83-7D09-47A0-A9F6-F15B2BA1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EC0D0-7638-4567-B074-D500A117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742C3-3E72-4856-86D7-AAA32777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17320" y="272880"/>
            <a:ext cx="8381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007A6-B133-44BF-8B55-254A9571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AD4F6-1890-4B1F-AAE2-C1999413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B3FA3-95E8-4D02-ACB5-097BE8B6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B01CC-90E4-4CA4-8AD4-7048C897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38280" y="6616800"/>
            <a:ext cx="1805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dat AG, Berlin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641800" y="6616800"/>
            <a:ext cx="1304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Slide No.  </a:t>
            </a:r>
            <a:fld id="{9DE53606-FC0F-4449-8285-571497AF9DE1}" type="slidenum"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903480" y="6599160"/>
            <a:ext cx="197100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fidential - 6519.022.01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65200" y="743040"/>
            <a:ext cx="8273880" cy="0"/>
          </a:xfrm>
          <a:prstGeom prst="line">
            <a:avLst/>
          </a:prstGeom>
          <a:ln w="12600">
            <a:solidFill>
              <a:srgbClr val="0063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80960" y="6553080"/>
            <a:ext cx="284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Symbol"/>
                <a:ea typeface="Symbol"/>
              </a:rPr>
              <a:t>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Click to edit the outline text format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7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Second Outline Lev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700"/>
              </a:spcBef>
              <a:buClr>
                <a:srgbClr val="0063ce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hird Outline Lev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Fourth Outline Lev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Fifth Outline Lev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Sixth Outline Lev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Seventh Outline Level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989920" y="71280"/>
            <a:ext cx="806400" cy="7207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61760" y="6229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71CE-2318-40A3-B765-B91A62839F83}" type="slidenum"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069"/>
                </a:solidFill>
                <a:latin typeface="ITC Officina Sans Book"/>
              </a:rPr>
              <a:t>PCO for LTS</a:t>
            </a:r>
            <a:endParaRPr b="0" lang="en-US" sz="7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069"/>
                </a:solidFill>
                <a:latin typeface="ITC Officina Sans Book"/>
              </a:rPr>
              <a:t>filtering</a:t>
            </a:r>
            <a:endParaRPr b="0" lang="en-US" sz="4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(ID: 6519.022.01.001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172200" y="33526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Filter on board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race filters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config string of form “TRACECLASS &lt;ClassMask&gt;” sent to an entity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example: “TRACECLASS FF” --&gt; MM</a:t>
            </a:r>
            <a:br>
              <a:rPr sz="2200"/>
            </a:b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             “TRACECLASS 00”  --&gt; RR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33" name=""/>
          <p:cNvSpPr/>
          <p:nvPr/>
        </p:nvSpPr>
        <p:spPr>
          <a:xfrm>
            <a:off x="6248520" y="5181480"/>
            <a:ext cx="30477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4495680"/>
            <a:ext cx="6858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48520" y="4038480"/>
            <a:ext cx="106668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0120" y="40384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610480" y="40384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4038480"/>
            <a:ext cx="129564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33526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4038480"/>
            <a:ext cx="10670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4495680"/>
            <a:ext cx="99036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6781680" y="4876920"/>
            <a:ext cx="0" cy="30456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3124080" y="4876560"/>
            <a:ext cx="3276720" cy="685800"/>
          </a:xfrm>
          <a:prstGeom prst="line">
            <a:avLst/>
          </a:prstGeom>
          <a:ln w="9360">
            <a:solidFill>
              <a:srgbClr val="0099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4648320"/>
            <a:ext cx="685800" cy="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4648320"/>
            <a:ext cx="990360" cy="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8001000" y="4876920"/>
            <a:ext cx="0" cy="30456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8915400" y="4876920"/>
            <a:ext cx="0" cy="30456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934320" y="4876920"/>
            <a:ext cx="0" cy="304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10280" y="5257800"/>
            <a:ext cx="990720" cy="0"/>
          </a:xfrm>
          <a:prstGeom prst="line">
            <a:avLst/>
          </a:prstGeom>
          <a:ln w="9360">
            <a:solidFill>
              <a:srgbClr val="ffcc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915400" y="5257800"/>
            <a:ext cx="0" cy="30492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84880" y="1905120"/>
            <a:ext cx="22096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FUNC       0x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EVENT    0x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PRIM        0x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STATE     0x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SYSTEM  0x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ISIG          0x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define TC_ERROR     0x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172200" y="33526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Filter on board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020600"/>
            <a:ext cx="929628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Primitive filters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config string of form </a:t>
            </a:r>
            <a:br>
              <a:rPr sz="2200"/>
            </a:b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“{&lt;OrgDestination&gt;|ALL}[&lt;opc mask&gt;] &lt;AddDestination&gt;” </a:t>
            </a:r>
            <a:br>
              <a:rPr sz="2200"/>
            </a:b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sent to an entity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example: “DUPLICATE MM PCO” --&gt; RR</a:t>
            </a:r>
            <a:br>
              <a:rPr sz="2200"/>
            </a:b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5181480"/>
            <a:ext cx="30477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4495680"/>
            <a:ext cx="6858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4038480"/>
            <a:ext cx="106668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0120" y="40384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610480" y="40384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67080" y="4038480"/>
            <a:ext cx="129564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33526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09680" y="4038480"/>
            <a:ext cx="10670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76720" y="4495680"/>
            <a:ext cx="99036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781680" y="4876920"/>
            <a:ext cx="0" cy="30456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3124080" y="4876560"/>
            <a:ext cx="3276720" cy="685800"/>
          </a:xfrm>
          <a:prstGeom prst="line">
            <a:avLst/>
          </a:prstGeom>
          <a:ln w="9360">
            <a:solidFill>
              <a:srgbClr val="0099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8839080" y="4876920"/>
            <a:ext cx="0" cy="304560"/>
          </a:xfrm>
          <a:prstGeom prst="line">
            <a:avLst/>
          </a:prstGeom>
          <a:ln w="9360">
            <a:solidFill>
              <a:srgbClr val="33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924680" y="4876920"/>
            <a:ext cx="0" cy="304560"/>
          </a:xfrm>
          <a:prstGeom prst="line">
            <a:avLst/>
          </a:prstGeom>
          <a:ln w="9360">
            <a:solidFill>
              <a:srgbClr val="33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924680" y="5257800"/>
            <a:ext cx="914400" cy="0"/>
          </a:xfrm>
          <a:prstGeom prst="line">
            <a:avLst/>
          </a:prstGeom>
          <a:ln w="9360">
            <a:solidFill>
              <a:srgbClr val="3366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5334120"/>
            <a:ext cx="1676160" cy="0"/>
          </a:xfrm>
          <a:prstGeom prst="line">
            <a:avLst/>
          </a:prstGeom>
          <a:ln w="9360">
            <a:solidFill>
              <a:srgbClr val="3366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162920" y="4876920"/>
            <a:ext cx="0" cy="304560"/>
          </a:xfrm>
          <a:prstGeom prst="line">
            <a:avLst/>
          </a:prstGeom>
          <a:ln w="9360">
            <a:solidFill>
              <a:srgbClr val="33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4648320"/>
            <a:ext cx="685800" cy="0"/>
          </a:xfrm>
          <a:prstGeom prst="line">
            <a:avLst/>
          </a:prstGeom>
          <a:ln w="9360">
            <a:solidFill>
              <a:srgbClr val="33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4648320"/>
            <a:ext cx="990360" cy="0"/>
          </a:xfrm>
          <a:prstGeom prst="line">
            <a:avLst/>
          </a:prstGeom>
          <a:ln w="9360">
            <a:solidFill>
              <a:srgbClr val="33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8153280" y="4876920"/>
            <a:ext cx="0" cy="304560"/>
          </a:xfrm>
          <a:prstGeom prst="line">
            <a:avLst/>
          </a:prstGeom>
          <a:ln w="9360">
            <a:solidFill>
              <a:srgbClr val="66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067680" y="4876920"/>
            <a:ext cx="0" cy="304560"/>
          </a:xfrm>
          <a:prstGeom prst="line">
            <a:avLst/>
          </a:prstGeom>
          <a:ln w="9360">
            <a:solidFill>
              <a:srgbClr val="66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153280" y="5410080"/>
            <a:ext cx="914400" cy="0"/>
          </a:xfrm>
          <a:prstGeom prst="line">
            <a:avLst/>
          </a:prstGeom>
          <a:ln w="9360">
            <a:solidFill>
              <a:srgbClr val="66ff66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Soft filter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17680" y="1143000"/>
            <a:ext cx="8594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Advantages of filtering on test system side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-24552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filter on primitive structure level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-24552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filter on air-message level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294840" indent="-29484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Usage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-24552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implementation on PCO-server or PCO-viewer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982800" indent="-196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on primitive level (sender, receiver, OPC)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982800" indent="-196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on primitive structure level -&gt; CCDEdit needed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982800" indent="-19656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on air message level -&gt; CCDEdit and CCD needed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3429000"/>
            <a:ext cx="1752480" cy="1828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3809880"/>
            <a:ext cx="129564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3429000"/>
            <a:ext cx="4800600" cy="1828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3809880"/>
            <a:ext cx="12952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162920" y="426708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52880" y="4267080"/>
            <a:ext cx="91440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3809880"/>
            <a:ext cx="10666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4267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3809880"/>
            <a:ext cx="10670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7652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</a:t>
            </a: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overview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19520" y="1020600"/>
            <a:ext cx="62928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Filters on board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Soft filters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594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For communication with the outer world a dedicated entity is used: Testinterface (TST)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serial port configuration: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default baudrate: 38400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default flow control: non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default data bits: 8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default stop bits: 1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default parity: none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data is send in blocks enclosured by 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tartOfText-Byte (STX): 0x02 … send before any byte-block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LineFeed-Byte (LF): 0x0a … send after any byte-block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2819520"/>
            <a:ext cx="2438280" cy="99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24480" y="32767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10280" y="2895480"/>
            <a:ext cx="106704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2819520"/>
            <a:ext cx="1295280" cy="99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0800" y="4343400"/>
            <a:ext cx="2438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X|data-block|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00440" y="3276720"/>
            <a:ext cx="228600" cy="1066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0" y="3276720"/>
            <a:ext cx="1981080" cy="1066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3200400"/>
            <a:ext cx="22860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7680" y="1447560"/>
            <a:ext cx="85946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At Condat we use the following block types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Trace … a text string send by an entity to an outside test system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Primitive … a structure send from one entity to another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Air message … an encoded structure send within a primitive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15360" indent="-31536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Concerning PCO we distinguish between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PCO message … a message send between PCO components (server,    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viewer, controller)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83280" indent="-26280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PCO primitive … a data block coming from mobile -&gt; has to be 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interpreted by PCO components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172200" y="35812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Traces: 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time and size are represented by character numbers (e.g. “1223”) !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5410080"/>
            <a:ext cx="30477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4724280"/>
            <a:ext cx="685800" cy="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4267080"/>
            <a:ext cx="106668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848720" y="42670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610480" y="42670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4267080"/>
            <a:ext cx="129564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35812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09680" y="4267080"/>
            <a:ext cx="10670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4724280"/>
            <a:ext cx="990360" cy="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8153280" y="5105520"/>
            <a:ext cx="0" cy="30456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8915400" y="5105520"/>
            <a:ext cx="0" cy="304560"/>
          </a:xfrm>
          <a:prstGeom prst="line">
            <a:avLst/>
          </a:prstGeom>
          <a:ln w="9360">
            <a:solidFill>
              <a:srgbClr val="ff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781680" y="5105520"/>
            <a:ext cx="0" cy="304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981080"/>
            <a:ext cx="8915400" cy="1295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81120" y="2054160"/>
          <a:ext cx="8615160" cy="125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2054160"/>
                    <a:ext cx="861516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172200" y="365760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17320" y="1020600"/>
            <a:ext cx="89312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Primitives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time, size and opc are represented by character numbers (e.g. “1223”) !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5486400"/>
            <a:ext cx="30477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4800600"/>
            <a:ext cx="6858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48520" y="4343400"/>
            <a:ext cx="1066680" cy="838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0120" y="4343400"/>
            <a:ext cx="6858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610480" y="4343400"/>
            <a:ext cx="68580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4343400"/>
            <a:ext cx="129564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65760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4343400"/>
            <a:ext cx="10670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4800600"/>
            <a:ext cx="99036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781680" y="5181120"/>
            <a:ext cx="0" cy="30492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2057400"/>
            <a:ext cx="8915400" cy="1295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1120" y="2139840"/>
          <a:ext cx="8615160" cy="12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2139840"/>
                    <a:ext cx="861516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 flipV="1">
            <a:off x="7924680" y="5181120"/>
            <a:ext cx="0" cy="30492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915400" y="5181480"/>
            <a:ext cx="0" cy="304920"/>
          </a:xfrm>
          <a:prstGeom prst="line">
            <a:avLst/>
          </a:prstGeom>
          <a:ln w="93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8001000" y="5029200"/>
            <a:ext cx="838080" cy="0"/>
          </a:xfrm>
          <a:prstGeom prst="line">
            <a:avLst/>
          </a:prstGeom>
          <a:ln w="9360">
            <a:solidFill>
              <a:srgbClr val="0099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124080" y="5105520"/>
            <a:ext cx="4724640" cy="0"/>
          </a:xfrm>
          <a:prstGeom prst="line">
            <a:avLst/>
          </a:prstGeom>
          <a:ln w="9360">
            <a:solidFill>
              <a:srgbClr val="0099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124080" y="5181120"/>
            <a:ext cx="3276720" cy="685800"/>
          </a:xfrm>
          <a:prstGeom prst="line">
            <a:avLst/>
          </a:prstGeom>
          <a:ln w="9360">
            <a:solidFill>
              <a:srgbClr val="009900"/>
            </a:solidFill>
            <a:prstDash val="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172200" y="35812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7320" y="1020600"/>
            <a:ext cx="89312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Air-messages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time, size and opc are represented by character numbers (e.g. “1223”) !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5410080"/>
            <a:ext cx="304776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48520" y="4267080"/>
            <a:ext cx="1066680" cy="838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0120" y="42670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610480" y="4267080"/>
            <a:ext cx="685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4267080"/>
            <a:ext cx="129564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3581280"/>
            <a:ext cx="3200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4267080"/>
            <a:ext cx="10670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981080"/>
            <a:ext cx="8915400" cy="12956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924680" y="5105520"/>
            <a:ext cx="0" cy="30456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915400" y="5105520"/>
            <a:ext cx="0" cy="30456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543800" y="2514600"/>
            <a:ext cx="160020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8001000" y="4952880"/>
            <a:ext cx="838080" cy="0"/>
          </a:xfrm>
          <a:prstGeom prst="line">
            <a:avLst/>
          </a:prstGeom>
          <a:ln w="9360">
            <a:solidFill>
              <a:srgbClr val="3333cc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9144000" y="3352680"/>
            <a:ext cx="533520" cy="114300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17480" y="2090880"/>
          <a:ext cx="8439120" cy="13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2090880"/>
                    <a:ext cx="84391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Basic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93726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PCO messages: 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60960" indent="-2541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urrently implemented by Syst_prim using T_SYST_PRIM-struct from FRAME/TS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60960" indent="-25416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time and size are represented binary 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marL="305280" indent="-3052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PCO primitives: 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660960" indent="-25416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urrently same structure as PCO message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17000" indent="-203400">
              <a:spcBef>
                <a:spcPts val="451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ITC Officina Sans Book"/>
              </a:rPr>
              <a:t>for direct Testing with xPanel or TAP ok, since the testinterface reformats the incoming binary-blocks into a T_SYST_PRIM-structure </a:t>
            </a: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17000" indent="-203400">
              <a:spcBef>
                <a:spcPts val="451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ITC Officina Sans Book"/>
              </a:rPr>
              <a:t>for LTS this could be done by PCO-server but maybe with new structure (e.g. because of time stamp issues)</a:t>
            </a: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017000" indent="-203400">
              <a:spcBef>
                <a:spcPts val="451"/>
              </a:spcBef>
              <a:buClr>
                <a:srgbClr val="0063ce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069"/>
                </a:solidFill>
                <a:latin typeface="ITC Officina Sans Book"/>
              </a:rPr>
              <a:t>… </a:t>
            </a:r>
            <a:r>
              <a:rPr b="0" lang="en-US" sz="1800" spc="-1" strike="noStrike">
                <a:solidFill>
                  <a:srgbClr val="003069"/>
                </a:solidFill>
                <a:latin typeface="ITC Officina Sans Book"/>
              </a:rPr>
              <a:t>or the viewer would have to interpret PCO-primitives as binary-blocks itself</a:t>
            </a:r>
            <a:endParaRPr b="0" lang="en-US" sz="1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362320"/>
            <a:ext cx="8915400" cy="1295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6600" y="2511360"/>
          <a:ext cx="8842320" cy="122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2511360"/>
                    <a:ext cx="884232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PCO for LTS … </a:t>
            </a:r>
            <a:r>
              <a:rPr b="1" i="1" lang="en-US" sz="2800" spc="-1" strike="noStrike">
                <a:solidFill>
                  <a:srgbClr val="003069"/>
                </a:solidFill>
                <a:latin typeface="ITC Officina Sans Book"/>
              </a:rPr>
              <a:t>Filter on board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7627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Advantages of filtering on mobile already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traffic reduction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necessary to receive primitives/air-messages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700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069"/>
                </a:solidFill>
                <a:latin typeface="ITC Officina Sans Book"/>
              </a:rPr>
              <a:t>Usage:</a:t>
            </a:r>
            <a:endParaRPr b="0" lang="en-US" sz="28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55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069"/>
                </a:solidFill>
                <a:latin typeface="ITC Officina Sans Book"/>
              </a:rPr>
              <a:t>several CONFIG-primitives (‘S’ as first header byte) are send to the mobile</a:t>
            </a: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4191120"/>
            <a:ext cx="8915400" cy="1295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54200" y="4267080"/>
          <a:ext cx="8542080" cy="137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267080"/>
                    <a:ext cx="85420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12:19:08Z</dcterms:created>
  <dc:creator>rk</dc:creator>
  <dc:description/>
  <dc:language>en-US</dc:language>
  <cp:lastModifiedBy>rk</cp:lastModifiedBy>
  <cp:lastPrinted>2001-02-21T09:43:32Z</cp:lastPrinted>
  <dcterms:modified xsi:type="dcterms:W3CDTF">2001-08-20T15:58:15Z</dcterms:modified>
  <cp:revision>222</cp:revision>
  <dc:subject/>
  <dc:title>xPanel &amp; PCO2</dc:title>
</cp:coreProperties>
</file>